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A4F-CA9E-4F4A-98F5-7D60785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226-B8EA-4CC6-A9E1-1B83C17B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63539-FFFF-4316-9761-8FA54CE3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2B361-D77A-4909-960B-3EF04A54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B0479-4F9A-4531-89F9-30D6E0E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357D1-5C67-43A2-B56C-973FB1A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DDA4-AF88-4DF6-9D9E-545264EE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87C89-68DB-44D0-927A-96549FC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3DB28-03A8-4993-B9B6-23377F9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0F447-4ACC-4D0B-81EC-A8DBC389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4B120-E780-4EFC-B11F-377BB317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85985-7CE1-4C24-9A6B-4BA750F3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3B8-7A89-4E36-9C50-AA503EB1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BFE88-7F28-4B3B-9690-2C7F8AF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FCD6F-B8B2-4D8B-B54C-6F63A6D7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D507E-5862-4D85-BA95-E8E23DAB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033D-6F16-4BD7-895B-3CB08CD7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F0A18-CDD0-4A1B-8CC8-B1BBE16A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9CEA6-99AD-4400-8366-25279DC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F4A8E-A1D3-4FA6-989D-FCA5ED8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B579-D673-4868-B07B-78CD9C9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8D3F3-0804-4E8F-9EC8-CFFD0914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B50B1-8B2E-4F0B-A13F-43C8308D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FE2-E1F4-4D57-B6CB-8CA80176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7DE48-819A-41F3-A5AA-6F972067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9F81D-217E-45C6-8A76-9CF324ED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A7087-805A-4E8F-8B25-9B0C8E6B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7615C-D295-4EC5-BF11-CD09F68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5B40-6F4A-4AE0-B5BF-6F5D4BC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A891A-0EB0-4B1A-B518-6F0A2BD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6F1FC-1981-40F2-8850-8C8B382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4B16A-7DF4-4E8C-AB13-6331254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EC51F-AB2E-47AE-B18C-03FFD97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6BC9E-FADE-4C01-AB5F-7115974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E206-7877-4AE3-AFB1-35E04DD0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053E8-1286-4054-BD05-B33970C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4E2A8-9107-48D3-97C0-DBED692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00BD-BC39-4FF7-82B9-61761624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0DBB-5332-40D4-978D-69ED03C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9045-37B4-4B16-BCAE-5F885F8D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8F3D-B78B-45B3-87CC-3BEF490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27B-A86C-4513-87C7-EB47D981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8898-24EA-4A6B-9189-B2D3A508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1C04-9CAA-45E7-825D-2FCC00E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9D6-EE6C-4A5F-B65A-9970677E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3BC-42E2-42F4-BCAE-9DB36AE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654-C1C7-431F-B366-A54EF98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718-3D1D-4263-B50A-A590662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196-6544-4873-9123-DD221EA9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704-641B-48E4-AC1A-451D1988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A77D-573E-4B63-8BEF-050DADDD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49E2-8285-483C-B3D7-B679362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080AF-9255-4D14-8E21-24F6C06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4C27-A36A-4160-9728-23DFB9A1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3343-CB8B-411E-A73B-34055C9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D2F-EF96-4B5A-AA86-CA09055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BAE0-23A8-473D-B449-BBF2906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E1FD-1601-4478-B6F0-2A74666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C73E-3BEC-41CF-A37F-38A74DB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20E0-157A-4116-AFDA-2EB223C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455E-DF8F-45E6-B5D7-279F54D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400C-77FD-4D64-99D9-754940A4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DADE-563E-4C59-A489-5A2B62C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0C65-622E-4E3C-B92E-5F1BC13C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8B27-A5B2-4DB6-99E1-B7FD5D4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F3D0-52DF-44AD-95B0-86124F6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1E1-B4C0-4E77-A21F-14061A0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6613-BF1C-4E8D-AD2B-DFDD31C9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0BA0-F1E0-4C55-A6FD-6616BFE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F2D2-6FF6-4BDD-99E3-438FE660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5551-EBA2-4F81-8531-D706869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7CAA-0FB0-46E5-8F2D-7DEC920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C78B-1851-43F8-9DE1-1DBB0A0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CEA03-EB46-42CF-AF73-A39A90F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D57D-3B55-4C8E-8A61-101CF12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85CE-1E6A-4D56-8F2E-DB8B0049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731A2-5E9A-4E25-BAD0-E0EE9806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402-C1F5-41AE-9FD0-0F02744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86581-F50A-4527-8180-3B765456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AC582-6FB6-4466-ACFC-A4BD34A3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B091-3DB3-4ABA-8486-D5797C49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F2BBB-7DC2-4C55-849B-1F4D156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44EF-56A1-4B38-A5A6-1E617BF3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6575-FD3E-4109-939F-C801EFB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1195-FFB2-46E1-BC90-BE4BEF8C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2887-6C71-4F64-93A1-997BD7F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6A2F-800A-4C1F-A235-2E41E3A4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95F0-860D-49C0-BA8F-46D7470A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7D4-775A-48DE-8F4B-91122FC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0D21-AB54-44C6-82BF-D67D17F4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124CB-B88D-4D75-9C55-34FF7497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018F-5C8A-4FC5-9C43-9BC696E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411E-D465-4A9A-95A2-9C700B0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A660D-C982-4DFF-93DD-BE91DCB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944E-19D1-4A3A-89AE-D5C2BAAE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9590-0C4D-4198-89EE-F270CB6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1DFA-87D6-43F4-8CE2-55120D5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5B8B-98B4-457C-99F4-F790EBC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84A2-AB65-46BB-BEF5-12CD37A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100-EE1D-4D24-9CE4-000CC31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F97A-7D25-4781-9527-66FFBC5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78FD-2743-4901-9E5E-CCA741DF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65B6-117C-46F7-B283-CF898549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863C-A1FD-43AA-A977-7B337E42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6E1B-CDBA-40AD-B1F0-F431BDC8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16CCE-DE6E-4FF6-8871-E4A21D1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5A66-E9AB-40D2-AD0B-93AC2540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F0828-2C42-4E53-8739-275798A0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5F61-EEDD-4532-A2FD-1E58D30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4221-4913-43BA-AB44-E0D47D3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43B-5E4F-4323-8CBA-196B406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E6A0-729E-4E1D-9144-D5A2F67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2F10-B4A2-4544-8885-F38E056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C0E9-FC4E-44E2-A054-F9209C52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EE52-4CB1-4DB5-BB54-912A97A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7535-B693-4B40-801A-F00AFD18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B370B-6A60-4FE3-B60A-EFFF591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23E76-335B-4AB8-9BF3-0D74553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FDDF-3CE4-4093-9184-C1860A95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82501-94D9-418E-895B-E92522D8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2CBE-4927-418D-BC9C-2D02463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F35-D25B-4F55-ABE7-D3B09FF4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B6F3-BB60-4D2E-9AB7-C0A3E1B2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01A7-3A24-4BF3-854C-FD8888B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75918-568B-48FE-8120-7F9A9A4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B7CE1-0CB8-46EE-B25D-014319A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8560" y="3915000"/>
            <a:ext cx="788688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60AE-F0CD-4620-860E-E9CC7B35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44144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3915000"/>
            <a:ext cx="38487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6E5E-D6B8-47C9-9A89-A5F51657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9544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2320" y="144144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856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9544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2320" y="3915000"/>
            <a:ext cx="253944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9490-A40A-433B-8515-B07C4EF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43310-AAB2-4879-9A7D-8E4A0BC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AA6C5-B0DE-4B13-B473-10A3746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C38E4-247A-49D8-A110-C244497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4CA-44FE-4962-A1E9-9FE515644697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1975-CC7F-41E6-BE99-B70928DAAF8C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B403-0EA8-4F83-9B08-426374E8FBBC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6"/>
          <p:cNvSpPr/>
          <p:nvPr/>
        </p:nvSpPr>
        <p:spPr>
          <a:xfrm>
            <a:off x="2714760" y="2516040"/>
            <a:ext cx="628560" cy="8384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A79-79CA-4A4F-896E-3EE883EBB0DA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44D8-A262-4A48-9AC2-CC4C7546084C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MH_Others_11"/>
          <p:cNvSpPr/>
          <p:nvPr/>
        </p:nvSpPr>
        <p:spPr>
          <a:xfrm>
            <a:off x="1657440" y="2664000"/>
            <a:ext cx="925560" cy="928440"/>
          </a:xfrm>
          <a:prstGeom prst="ellipse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02B2-6A09-47D6-829D-83A080637FC8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869-93DE-4882-ADE9-8FE733BA42C8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9D1-1E64-44F7-B159-3CD3ED8A4232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3B7-0BBF-45FD-84E0-257719C6106B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729-8EE1-45D4-8C80-7A4F0AC95038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ad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441440"/>
            <a:ext cx="7886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Times New Roman"/>
                <a:ea typeface="黑体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7F65-1102-45D7-A6AA-81954B99C5DE}" type="slidenum">
              <a:rPr b="0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28560" y="1534680"/>
            <a:ext cx="78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友谊的天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承载着我们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几多欢乐，几多幸福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兴许还有困扰和烦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起分享生活的点点滴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友谊的芬芳洒满衣襟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让友谊的彩虹点亮青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矩形 4" descr=""/>
          <p:cNvPicPr/>
          <p:nvPr/>
        </p:nvPicPr>
        <p:blipFill>
          <a:blip r:embed="rId1"/>
          <a:stretch/>
        </p:blipFill>
        <p:spPr>
          <a:xfrm>
            <a:off x="1706400" y="347760"/>
            <a:ext cx="4773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642960" y="1285920"/>
            <a:ext cx="7929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上初中了，你的朋友圈发生了什么变化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643120" y="5716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说心里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4" descr="BD14595_"/>
          <p:cNvPicPr/>
          <p:nvPr/>
        </p:nvPicPr>
        <p:blipFill>
          <a:blip r:embed="rId1"/>
          <a:stretch/>
        </p:blipFill>
        <p:spPr>
          <a:xfrm>
            <a:off x="1714680" y="1214280"/>
            <a:ext cx="5143320" cy="142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1357200" y="2928960"/>
            <a:ext cx="6858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9"/>
          <p:cNvSpPr/>
          <p:nvPr/>
        </p:nvSpPr>
        <p:spPr>
          <a:xfrm>
            <a:off x="1071720" y="2000160"/>
            <a:ext cx="7000560" cy="64260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由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熟悉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加了几分陌生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有的同学朋友圈扩大了，交往内容更丰富了；有的同学朋友圈比以前变小了，但交往更加深入，朋友关系更加密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10"/>
          <p:cNvSpPr/>
          <p:nvPr/>
        </p:nvSpPr>
        <p:spPr>
          <a:xfrm>
            <a:off x="1214280" y="5000760"/>
            <a:ext cx="6000840" cy="119124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与新同学交往缺乏感情基础；不被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，甚至容易被误解；担心被拒绝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642960" y="4119480"/>
            <a:ext cx="7929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在新环境中交友，你遇到了什么困难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2" descr="http://pic2.ooopic.com/12/98/76/77b1OOOPIC75.jpg"/>
          <p:cNvPicPr/>
          <p:nvPr/>
        </p:nvPicPr>
        <p:blipFill>
          <a:blip r:embed="rId2"/>
          <a:stretch/>
        </p:blipFill>
        <p:spPr>
          <a:xfrm>
            <a:off x="7358040" y="5072040"/>
            <a:ext cx="1155600" cy="1198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1"/>
          <p:cNvSpPr/>
          <p:nvPr/>
        </p:nvSpPr>
        <p:spPr>
          <a:xfrm>
            <a:off x="2509920" y="880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你会因为这些困难而拒绝友谊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文本框 3"/>
          <p:cNvSpPr/>
          <p:nvPr/>
        </p:nvSpPr>
        <p:spPr>
          <a:xfrm>
            <a:off x="884160" y="242424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对友谊的渴望，是我们的心理需要，没有朋友，会感到孤单、寂寞的。在与朋友的交往中，有欢笑也有泪水；有甜蜜也有苦涩，这都是正常现象。如果我们经常对自己的朋友关系进行梳理，我们可以更好的察觉自己对友谊的真正期待，逐渐学会处理交友中遇到的各种问题，收获更加纯真的友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1"/>
          <p:cNvSpPr/>
          <p:nvPr/>
        </p:nvSpPr>
        <p:spPr>
          <a:xfrm>
            <a:off x="163440" y="239760"/>
            <a:ext cx="873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朋友圈的变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随着年龄的增长，也许有人发现，自己的交往范围扩大了，朋友圈也扩大了，交往内容更丰富了；也许有人发现，自己的朋友圈比以前要小了，但是交往更加深入，朋友关系更加密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文本框 1" descr=""/>
          <p:cNvPicPr/>
          <p:nvPr/>
        </p:nvPicPr>
        <p:blipFill>
          <a:blip r:embed="rId1"/>
          <a:stretch/>
        </p:blipFill>
        <p:spPr>
          <a:xfrm>
            <a:off x="163440" y="3340080"/>
            <a:ext cx="873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1"/>
          <p:cNvSpPr/>
          <p:nvPr/>
        </p:nvSpPr>
        <p:spPr>
          <a:xfrm>
            <a:off x="719640" y="20484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友谊的力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文本框 2"/>
          <p:cNvSpPr/>
          <p:nvPr/>
        </p:nvSpPr>
        <p:spPr>
          <a:xfrm>
            <a:off x="54000" y="99540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来自于同一所小学，进入初中分到同班的小红和小丽很快的变成了好朋友。小红很喜欢唱歌，经常向小丽展示自己美妙的歌声，时间久了小丽也渐渐爱上了音乐；小丽特别喜欢打乒乓球，小红就成了陪练，由于经常在一起打球，小红的乒乓球球技大增。由于热衷于爱好，小丽的成绩直线下滑，排名在班级位于中下游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丽因为成绩的缘故一直很沮丧，小红就提出每次放学后帮她补习功课，渐渐地小丽的成绩上来了，从课下一起玩耍、课上一起学习，再到周末相约一起游玩，小红和小丽成为了无话不谈的好朋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框 3"/>
          <p:cNvSpPr/>
          <p:nvPr/>
        </p:nvSpPr>
        <p:spPr>
          <a:xfrm>
            <a:off x="54000" y="5060880"/>
            <a:ext cx="83757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小红和小丽各自发生了什么样的变化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这些变化产生的原因是什么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  <a:ea typeface="宋体"/>
              </a:rPr>
              <a:t>）同学们，你们有从中获得了什么样的启示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36440" y="2454840"/>
            <a:ext cx="91234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22a35"/>
                </a:solidFill>
                <a:latin typeface="微软雅黑"/>
                <a:ea typeface="微软雅黑"/>
              </a:rPr>
              <a:t>      </a:t>
            </a:r>
            <a:r>
              <a:rPr b="0" sz="2800" spc="-1" strike="noStrike">
                <a:solidFill>
                  <a:srgbClr val="222a35"/>
                </a:solidFill>
                <a:latin typeface="微软雅黑"/>
                <a:ea typeface="微软雅黑"/>
              </a:rPr>
              <a:t>1. </a:t>
            </a:r>
            <a:r>
              <a:rPr b="0" sz="2800" spc="-1" strike="noStrike">
                <a:solidFill>
                  <a:srgbClr val="222a35"/>
                </a:solidFill>
                <a:latin typeface="微软雅黑"/>
                <a:ea typeface="微软雅黑"/>
              </a:rPr>
              <a:t>朋友对一个人的影响很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0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近朱者赤、近墨者黑。”</a:t>
            </a:r>
            <a:r>
              <a:rPr b="0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对一个人的影响很大，我们的言谈举止、兴趣爱好甚至性格等都或多或少地受到朋友的影响。</a:t>
            </a:r>
            <a:r>
              <a:rPr b="0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（有积极正面影响，也有消极负面影响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朋友喜欢的事情，我们会去尝试；朋友正在做的事情，我们会去关注。与乐观开朗的朋友相处，我们会变得豁达；与乐于助人的朋友相处，我们会变得富有爱心；与热爱学习的朋友交往，我们会变得乐学善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从正直善良的朋友那里，我学会了正直、善良；从学习习惯良好的朋友那里，我养成了良好的学习习惯；从文明礼貌的朋友那里，我懂得了文明礼貌</a:t>
            </a:r>
            <a:r>
              <a:rPr b="0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文本框 1" descr=""/>
          <p:cNvPicPr/>
          <p:nvPr/>
        </p:nvPicPr>
        <p:blipFill>
          <a:blip r:embed="rId1"/>
          <a:stretch/>
        </p:blipFill>
        <p:spPr>
          <a:xfrm>
            <a:off x="-22320" y="254160"/>
            <a:ext cx="9299520" cy="363204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2"/>
          <p:cNvSpPr/>
          <p:nvPr/>
        </p:nvSpPr>
        <p:spPr>
          <a:xfrm>
            <a:off x="184320" y="2816280"/>
            <a:ext cx="89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）朋友丰富了我们的生活经验，友谊让我们更深刻地体悟生命的美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孔子说：“友直，友谅，友多闻，益矣。”与正直、诚信和见识广的人交朋友，是有益的，要善交益友。朋友丰富了我们的生活经验，友谊让我们更深刻地体悟生命的美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文本框 3"/>
          <p:cNvSpPr/>
          <p:nvPr/>
        </p:nvSpPr>
        <p:spPr>
          <a:xfrm>
            <a:off x="184320" y="495468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3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）朋友带给我们的温暖、支持和力量，让我们感受生活的美好，在人生的旅途上，朋友伴我们同行，友谊照亮我们人生之路</a:t>
            </a:r>
            <a:r>
              <a:rPr b="1" sz="1800" spc="-1" strike="noStrike">
                <a:solidFill>
                  <a:srgbClr val="c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文本框 4"/>
          <p:cNvSpPr/>
          <p:nvPr/>
        </p:nvSpPr>
        <p:spPr>
          <a:xfrm>
            <a:off x="184320" y="5994360"/>
            <a:ext cx="81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4</a:t>
            </a:r>
            <a:r>
              <a:rPr b="1" sz="2400" spc="-1" strike="noStrike">
                <a:solidFill>
                  <a:srgbClr val="c00000"/>
                </a:solidFill>
                <a:latin typeface="Arial"/>
                <a:ea typeface="黑体"/>
              </a:rPr>
              <a:t>）朋友可以分享快乐、分担痛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MH_Desc_1" descr=""/>
          <p:cNvPicPr/>
          <p:nvPr/>
        </p:nvPicPr>
        <p:blipFill>
          <a:blip r:embed="rId1"/>
          <a:stretch/>
        </p:blipFill>
        <p:spPr>
          <a:xfrm>
            <a:off x="320760" y="787320"/>
            <a:ext cx="8531280" cy="4984920"/>
          </a:xfrm>
          <a:prstGeom prst="rect">
            <a:avLst/>
          </a:prstGeom>
          <a:ln w="0">
            <a:noFill/>
          </a:ln>
        </p:spPr>
      </p:pic>
      <p:sp>
        <p:nvSpPr>
          <p:cNvPr id="493" name="矩形 1"/>
          <p:cNvSpPr/>
          <p:nvPr/>
        </p:nvSpPr>
        <p:spPr>
          <a:xfrm>
            <a:off x="152280" y="410544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5a11"/>
                </a:solidFill>
                <a:latin typeface="Arial"/>
                <a:ea typeface="黑体"/>
              </a:rPr>
              <a:t>读了这则故事中，你有什么样的感受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文本框 2" descr=""/>
          <p:cNvPicPr/>
          <p:nvPr/>
        </p:nvPicPr>
        <p:blipFill>
          <a:blip r:embed="rId2"/>
          <a:stretch/>
        </p:blipFill>
        <p:spPr>
          <a:xfrm>
            <a:off x="466560" y="58680"/>
            <a:ext cx="1960560" cy="73512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3"/>
          <p:cNvSpPr/>
          <p:nvPr/>
        </p:nvSpPr>
        <p:spPr>
          <a:xfrm>
            <a:off x="152280" y="4749840"/>
            <a:ext cx="8253360" cy="45972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真正的友谊，不是花言巧语，而是关键时候拉你的那只手。那些整日围在你身边，让你有些许小欢喜的朋友，不一定是真正的朋友。而那些看似远离，实际上时刻关注着你的人，在你快乐的时候，不去奉承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你需要的时候，默默为你付出、关心你的人，那才是真正的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1"/>
          <p:cNvSpPr/>
          <p:nvPr/>
        </p:nvSpPr>
        <p:spPr>
          <a:xfrm>
            <a:off x="301680" y="9460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茫茫人海，芸芸众生，与你擦肩的人很多，和你相识的人不计其数，但和你没有血缘亲情，却默默关心你、牵挂你、在乎你、帮助你，这就是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，是你高兴时想见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烦恼时寻找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得到帮助时不需要说谢谢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打扰时不要对不起的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可以一起哭，一起笑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一起雨中散步，一起泥地上打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不一定常联系，不一定常见面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从来不需要想起，永远也不会忘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朋友是肩膀，可以让你靠着哭泣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有朋自远方来不亦乐乎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有朋友的日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鲜花盛开，阳光灿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矩形 2"/>
          <p:cNvSpPr/>
          <p:nvPr/>
        </p:nvSpPr>
        <p:spPr>
          <a:xfrm>
            <a:off x="462960" y="24444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启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203864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文本占位符 13314" descr=""/>
          <p:cNvPicPr/>
          <p:nvPr/>
        </p:nvPicPr>
        <p:blipFill>
          <a:blip r:embed="rId1"/>
          <a:stretch/>
        </p:blipFill>
        <p:spPr>
          <a:xfrm>
            <a:off x="628560" y="1509840"/>
            <a:ext cx="78868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1"/>
          <p:cNvSpPr/>
          <p:nvPr/>
        </p:nvSpPr>
        <p:spPr>
          <a:xfrm>
            <a:off x="2166840" y="53964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们需要真诚友善的朋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文本框 2"/>
          <p:cNvSpPr/>
          <p:nvPr/>
        </p:nvSpPr>
        <p:spPr>
          <a:xfrm>
            <a:off x="1555920" y="3368520"/>
            <a:ext cx="603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少了几分孤独，多了些许温暖，活得更加自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感受到自身的价值，多了一份对自己的欣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因为朋友，我们学会了更好的与人相处，享受交往的快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矩形 3"/>
          <p:cNvSpPr/>
          <p:nvPr/>
        </p:nvSpPr>
        <p:spPr>
          <a:xfrm>
            <a:off x="2511360" y="166356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cbad"/>
                </a:solidFill>
                <a:latin typeface="Arial"/>
                <a:ea typeface="黑体"/>
              </a:rPr>
              <a:t>真正的友谊可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cbad"/>
                </a:solidFill>
                <a:latin typeface="Arial"/>
                <a:ea typeface="黑体"/>
              </a:rPr>
              <a:t>让我们更深刻的体悟生命的美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矩形 2" descr=""/>
          <p:cNvPicPr/>
          <p:nvPr/>
        </p:nvPicPr>
        <p:blipFill>
          <a:blip r:embed="rId1"/>
          <a:stretch/>
        </p:blipFill>
        <p:spPr>
          <a:xfrm>
            <a:off x="1143000" y="3643200"/>
            <a:ext cx="6500880" cy="1322640"/>
          </a:xfrm>
          <a:prstGeom prst="rect">
            <a:avLst/>
          </a:prstGeom>
          <a:ln w="0">
            <a:noFill/>
          </a:ln>
        </p:spPr>
      </p:pic>
      <p:sp>
        <p:nvSpPr>
          <p:cNvPr id="456" name="文本框 1"/>
          <p:cNvSpPr/>
          <p:nvPr/>
        </p:nvSpPr>
        <p:spPr>
          <a:xfrm>
            <a:off x="619200" y="750960"/>
            <a:ext cx="546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单元   友谊的天空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四课 友谊与成长同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358200"/>
            <a:ext cx="8610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2608200" y="1751400"/>
            <a:ext cx="5891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孔子说：“有三种有益的朋友，有三种有害的朋友。同正直的人交朋友，同诚实的人交朋友，同见多识广的人交朋友，这是有益的。同阿谀奉承的人交朋友，同当面恭维，背后诽谤的人交朋友，同花言巧语的人交朋友，这是有害的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图片 1" descr=""/>
          <p:cNvPicPr/>
          <p:nvPr/>
        </p:nvPicPr>
        <p:blipFill>
          <a:blip r:embed="rId1"/>
          <a:stretch/>
        </p:blipFill>
        <p:spPr>
          <a:xfrm>
            <a:off x="228600" y="182520"/>
            <a:ext cx="2141640" cy="307656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2"/>
          <p:cNvSpPr/>
          <p:nvPr/>
        </p:nvSpPr>
        <p:spPr>
          <a:xfrm>
            <a:off x="228600" y="4476600"/>
            <a:ext cx="6978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叶根友毛笔行书2.0版"/>
                <a:ea typeface="叶根友毛笔行书2.0版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我们要与正直、诚信和见识广的交朋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1"/>
          <p:cNvSpPr/>
          <p:nvPr/>
        </p:nvSpPr>
        <p:spPr>
          <a:xfrm>
            <a:off x="174600" y="69840"/>
            <a:ext cx="83296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嗷嗷待哺的婴儿主要是与妈妈交流，蹒跚学步的孩子主要在父母的引导下逐步跑跳自如，咿呀学语的幼儿开始与熟悉的小朋友一起嬉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上述现象（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人随着年龄的增长，交往的范围会逐步由内圈向外圈扩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启示我们积极交往，不断扩大交往范围，提高交往能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由内圈向外圈发展，越快越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说明了人们都会交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①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③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①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②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文本框 2"/>
          <p:cNvSpPr/>
          <p:nvPr/>
        </p:nvSpPr>
        <p:spPr>
          <a:xfrm>
            <a:off x="174600" y="4705200"/>
            <a:ext cx="886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“海内存知己，天涯若比邻”高度地概括了“友情深厚，江山难阻”的情景。下列选项中对友情的认识不正确的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是我们健康成长中不可缺少的精神营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能给我们温暖和力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能让我们获得幸福和欢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友情没有好坏之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文本框 3"/>
          <p:cNvSpPr/>
          <p:nvPr/>
        </p:nvSpPr>
        <p:spPr>
          <a:xfrm>
            <a:off x="6480" y="2311560"/>
            <a:ext cx="93135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、交往越广泛越有利于我们拓宽视野，下列同学扩大交往圈的做法正确的是（   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明积极参加环保宣传的公益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丽报名参加了暑假兴趣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华通过网络认识了一位英国同龄人，互相学习对方的语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小叶认识了几名社会青年，常常在一起称兄道弟，吃喝玩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①③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②③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①②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①②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3360" y="69840"/>
            <a:ext cx="236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友谊万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72520" y="847440"/>
            <a:ext cx="87822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个路人发现有一堆泥土散发出芬芳的清香，于是就把它带回家。一时间他的家里满室清香。他惊讶地问这堆泥土：亲爱的泥土，你是大城市里来的珍宝，还是一块稀有珍贵的香料呢？或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泥土回答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都不是，我只是一块普通的泥土而已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人又问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你身上馥郁的清香是从哪里来的呢？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泥土说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只是在玫瑰园里和玫瑰相处久了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这个故事给你怎样的启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你对友谊是怎样认识的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文本框 3"/>
          <p:cNvSpPr/>
          <p:nvPr/>
        </p:nvSpPr>
        <p:spPr>
          <a:xfrm>
            <a:off x="358920" y="3673440"/>
            <a:ext cx="78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  <a:ea typeface="黑体"/>
              </a:rPr>
              <a:t>与道德高尚，诚实善良、正直的人交朋友，对自己的有积极的影响，有利于自己成长进步，要善交益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文本框 5"/>
          <p:cNvSpPr/>
          <p:nvPr/>
        </p:nvSpPr>
        <p:spPr>
          <a:xfrm>
            <a:off x="272880" y="5137200"/>
            <a:ext cx="84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00000"/>
                </a:solidFill>
                <a:latin typeface="Arial"/>
                <a:ea typeface="黑体"/>
              </a:rPr>
              <a:t>朋友，见证了我们一路走过的历程</a:t>
            </a:r>
            <a:r>
              <a:rPr b="0" sz="2000" spc="-1" strike="noStrike">
                <a:solidFill>
                  <a:srgbClr val="c00000"/>
                </a:solidFill>
                <a:latin typeface="Arial"/>
                <a:ea typeface="黑体"/>
              </a:rPr>
              <a:t>。</a:t>
            </a:r>
            <a:r>
              <a:rPr b="1" sz="2000" spc="-1" strike="noStrike">
                <a:solidFill>
                  <a:srgbClr val="c00000"/>
                </a:solidFill>
                <a:latin typeface="Arial"/>
                <a:ea typeface="黑体"/>
              </a:rPr>
              <a:t>朋友丰富了我们的生活经验，友谊让我们更深刻地体悟生命的美好。朋友带给我们的温暖、支持和力量，让我们感受生活的美好，在人生的旅途上，朋友伴我们同行，友谊照亮我们人生之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朋友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28560" y="1534680"/>
            <a:ext cx="78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朋友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伤心时，最想见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打扰了，不用说对不起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高升了，也不用改变称呼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是天涯海角，都彼此挂念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缘是天意，份是人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知音是贴切的默契，知己是完美的深交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朋友是生生世世的牵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不在乎生命中经历过的酸甜苦辣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却很在乎随处可见的真诚和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MH_Desc_1"/>
          <p:cNvSpPr/>
          <p:nvPr/>
        </p:nvSpPr>
        <p:spPr>
          <a:xfrm>
            <a:off x="1209600" y="912960"/>
            <a:ext cx="7539120" cy="3754440"/>
          </a:xfrm>
          <a:prstGeom prst="pie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本不该有那么重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又的确那么重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生命里或许可以没有感动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没有胜利没有其他的东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但不能没有的是朋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矩形 3" descr=""/>
          <p:cNvPicPr/>
          <p:nvPr/>
        </p:nvPicPr>
        <p:blipFill>
          <a:blip r:embed="rId1"/>
          <a:stretch/>
        </p:blipFill>
        <p:spPr>
          <a:xfrm>
            <a:off x="623880" y="5375160"/>
            <a:ext cx="82184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1"/>
          <p:cNvSpPr/>
          <p:nvPr/>
        </p:nvSpPr>
        <p:spPr>
          <a:xfrm>
            <a:off x="312840" y="606600"/>
            <a:ext cx="817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能够陪你欢笑、陪你哭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身处困境依然愿意帮助你解决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所有人都误解你却依然愿意相信你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犯错时能够直言不讳指出来的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朋友，就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1"/>
          <p:cNvSpPr/>
          <p:nvPr/>
        </p:nvSpPr>
        <p:spPr>
          <a:xfrm>
            <a:off x="225360" y="1197000"/>
            <a:ext cx="86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小学时小红一直是小玲最亲密的朋友，但现在升入初中后情况有了变化：她们在同一所学校的不同班级，只有在中午和下午放学后才匆匆相见。喜欢打排球的小红有了一些新朋友，她与球友们玩得很开心，似乎不太看重与小玲的友谊，对苦闷的小玲也不关心。小玲虽然也想学打排球，但对加入小红的朋友圈并不感兴趣，她希望能像以前那样，只和小红在一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小玲的想法对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文本框 2"/>
          <p:cNvSpPr/>
          <p:nvPr/>
        </p:nvSpPr>
        <p:spPr>
          <a:xfrm>
            <a:off x="691200" y="270000"/>
            <a:ext cx="21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Arial"/>
                <a:ea typeface="宋体"/>
              </a:rPr>
              <a:t>我的朋友圈</a:t>
            </a: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文本框 2"/>
          <p:cNvSpPr/>
          <p:nvPr/>
        </p:nvSpPr>
        <p:spPr>
          <a:xfrm>
            <a:off x="281160" y="5067360"/>
            <a:ext cx="8231040" cy="45972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对。随着年龄的增长，自己交往的范围扩大了，朋友圈越来越大，朋友越来越多，也有的朋友圈有利于小了，但交往更加深入，朋友关系更加密切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"/>
          <p:cNvSpPr/>
          <p:nvPr/>
        </p:nvSpPr>
        <p:spPr>
          <a:xfrm>
            <a:off x="-25560" y="730080"/>
            <a:ext cx="908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宋体"/>
              </a:rPr>
              <a:t>朋友成为越来越重要的部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长大，意味着什么？像小鸟羽翼日渐丰满，有了振翅高飞的渴望；外面的世界如此广阔，我们渴望有人相伴一起飞翔。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伙伴、同学、朋友，成为我们生命中越来越重要的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矩形 1" descr=""/>
          <p:cNvPicPr/>
          <p:nvPr/>
        </p:nvPicPr>
        <p:blipFill>
          <a:blip r:embed="rId1"/>
          <a:stretch/>
        </p:blipFill>
        <p:spPr>
          <a:xfrm>
            <a:off x="2643120" y="343080"/>
            <a:ext cx="3933720" cy="82368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3"/>
          <p:cNvSpPr/>
          <p:nvPr/>
        </p:nvSpPr>
        <p:spPr>
          <a:xfrm>
            <a:off x="642960" y="1533600"/>
            <a:ext cx="79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儿时，我们有自己的玩伴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小学，我们有了自己的朋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初中，我们虽然会想念之前的朋友，但是也会迎来新的友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如此往复，迎来送往，每个阶段我们都会离开老朋友，结识新朋友，直到我们生命终结的时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而这些伙伴、同学、朋友陪伴着我们看遍世间繁华、走遍世界各地，渐渐地成为我们生命中越来越重要的部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04:52:35Z</dcterms:created>
  <dc:creator/>
  <dc:description/>
  <dc:language>en-US</dc:language>
  <cp:lastModifiedBy>Administrator</cp:lastModifiedBy>
  <dcterms:modified xsi:type="dcterms:W3CDTF">2017-09-18T08:15:3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